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F39-0F19-4D0A-881B-AFE2962F5C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A66-3B5F-49BA-9B34-33C3195FF0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B6D-B629-4D8E-AC35-17CE1FB85A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5024-37CD-4893-B250-B8A2ECD901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1F4A-CB5B-4B0D-98E9-FA57059DFC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F49-F299-43AD-AD9A-72FDA52CBD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46E-762B-4AD5-BD6E-771A65AEEF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B494-AFE9-45EF-A8C5-BA38276852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FCF-6AB4-4834-837C-2C160257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5A4-E780-41C0-B2B0-3DD78E4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0FA-0FEF-49A1-8B75-AA9495D0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EE8-343C-4750-B980-490DA53B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F88-ABE3-4D09-BAE4-8C83BF9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373-AE75-4395-B26B-15A35857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7D1-C6DE-4D4D-B50C-A63BA384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7DC-3AA0-4D0B-B62E-4ABB7997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2FB-E0A0-4D17-B739-BA330DAA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A03-2F61-4B6C-946A-D901475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88D-7977-47F3-91B4-21815D6C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0C4-BC01-4344-AC2C-BC469C5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3A85-85F4-4270-B990-2F87042250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hyperlink" Target="http://images.google.co.uk/imgres?imgurl=http://icn2.umeche.maine.edu/newnav/NewNavigator/images/headache.gif&amp;imgrefurl=http://icn2.umeche.maine.edu/newnav/NewNavigator/Labs/Aspir_5663.htm&amp;h=661&amp;w=800&amp;sz=12&amp;hl=en&amp;start=3&amp;um=1&amp;usg=__XfW7usfC9Wool5y8hlIoy-vBxwQ=&amp;tbnid=XyAnSqiAVZmEcM:&amp;tbnh=118&amp;tbnw=143&amp;prev=/images%3Fq%3Dheadache%26um%3D1%26hl%3Den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.uk/imgres?imgurl=http://www.ithec.com/images/aspirine_accueil.jpg&amp;imgrefurl=http://69.39.226.126/showthread.php%3Ft%3D94345%26page%3D15&amp;h=286&amp;w=306&amp;sz=16&amp;hl=en&amp;start=6&amp;um=1&amp;usg=__neNVOQtscjPyrVjHJ4um_NUAmXs=&amp;tbnid=iVR4y_2DZKVpuM:&amp;tbnh=109&amp;tbnw=117&amp;prev=/images%3Fq%3Daspirine%26um%3D1%26hl%3Den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9.wmf"/><Relationship Id="rId7" Type="http://schemas.openxmlformats.org/officeDocument/2006/relationships/hyperlink" Target="http://images.google.co.uk/imgres?imgurl=http://www.6767.com/archives/sore_throat.jpg&amp;imgrefurl=http://journeyswithjood.blogspot.com/2006_08_01_archive.html&amp;h=320&amp;w=320&amp;sz=14&amp;hl=en&amp;start=10&amp;um=1&amp;usg=__2oQG7r7uiP2wnOf-FLN4x7PhBRs=&amp;tbnid=HE9r9643ALDYPM:&amp;tbnh=118&amp;tbnw=118&amp;prev=/images%3Fq%3Dsore%2Bthroat%26um%3D1%26hl%3Den%26sa%3DX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o.uk/imgres?imgurl=http://www.dotolearn.com/picturecards/images/imageschedule/stomachache_l.gif&amp;imgrefurl=http://www.dotolearn.com/picturecards/printcards/2inch/imagegridsnowords/healthnoword.htm&amp;h=421&amp;w=352&amp;sz=11&amp;hl=en&amp;start=1&amp;um=1&amp;usg=__mvrkaJoLOBWuF48KJJsDWU_59JQ=&amp;tbnid=nR1qILRuX94djM:&amp;tbnh=125&amp;tbnw=105&amp;prev=/images%3Fq%3Dstomach%2Bache%26um%3D1%26hl%3Den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hyperlink" Target="http://images.google.co.uk/imgres?imgurl=http://www.stanford.edu/group/virus/adeno/2005/cough.gif&amp;imgrefurl=http://www.stanford.edu/group/virus/adeno/2005/syndromes%26symptoms.html&amp;h=788&amp;w=936&amp;sz=12&amp;hl=en&amp;start=1&amp;um=1&amp;usg=__cHbCumE6iVDjpmQGMJgkqfXxcWg=&amp;tbnid=4VvIhzP69mrtTM:&amp;tbnh=125&amp;tbnw=148&amp;prev=/images%3Fq%3Dcough%26um%3D1%26hl%3Den" TargetMode="External"/><Relationship Id="rId9" Type="http://schemas.openxmlformats.org/officeDocument/2006/relationships/image" Target="../media/image14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images.google.co.uk/imgres?imgurl=http://www.countryilink.net/fastturtle/feet.gif&amp;imgrefurl=http://www.countryilink.net/fastturtle/&amp;h=266&amp;w=358&amp;sz=16&amp;hl=en&amp;start=1&amp;um=1&amp;usg=__ew4y8eX8jd6tBkVXKE4d0oL3a_I=&amp;tbnid=f8J-evAKn9FvYM:&amp;tbnh=90&amp;tbnw=121&amp;prev=/images%3Fq%3Dfeet%2Bache%26um%3D1%26hl%3Den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www.google.co.uk/url?sa=i&amp;rct=j&amp;q=pharmacy+clipart&amp;source=images&amp;cd=&amp;cad=rja&amp;docid=HkDj-34XrgospM&amp;tbnid=47VPsYbJmAezyM:&amp;ved=0CAUQjRw&amp;url=http%3A%2F%2Frussianlearn.com%2Fwords&amp;ei=DJEmUa-GKqH80QXnxYGQCw&amp;bvm=bv.42661473,d.d2k&amp;psig=AFQjCNEJoHBS_rPZWSxpVBY7NBQluck4Aw&amp;ust=1361568391495146" TargetMode="External"/><Relationship Id="rId9" Type="http://schemas.openxmlformats.org/officeDocument/2006/relationships/image" Target="../media/image16.jpeg"/><Relationship Id="rId10" Type="http://schemas.openxmlformats.org/officeDocument/2006/relationships/image" Target="../media/image17.wm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.uk/imgres?imgurl=http://www.dotolearn.com/picturecards/images/imageschedule/earache_l.gif&amp;imgrefurl=http://www.dotolearn.com/picturecards/printcards/2inch/imagegridsnowords/healthnoword.htm&amp;h=408&amp;w=421&amp;sz=13&amp;hl=en&amp;start=1&amp;um=1&amp;usg=__6JZq0GpNg1sosoJXRAYNmve4WXE=&amp;tbnid=YHq1V0RyRPnUpM:&amp;tbnh=121&amp;tbnw=125&amp;prev=/images%3Fq%3Dear%2Bache%26um%3D1%26hl%3D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.uk/imgres?imgurl=http://tell.fll.purdue.edu/JapanProj/FLClipart/Medical/cold.gif&amp;imgrefurl=http://philadelphiaweather.blogspot.com/2005_12_09_archive.html&amp;h=833&amp;w=834&amp;sz=15&amp;hl=en&amp;start=2&amp;um=1&amp;usg=__MnSFsY6fUmwsUbSyRqh-lRlpJsw=&amp;tbnid=1jpU5ATER9TAzM:&amp;tbnh=144&amp;tbnw=144&amp;prev=/images%3Fq%3Dcold%26um%3D1%26hl%3De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www.google.co.uk/url?sa=i&amp;rct=j&amp;q=aspirin+clipart&amp;source=images&amp;cd=&amp;cad=rja&amp;docid=gZUWwhdq5zpmBM&amp;tbnid=-4Mj5BkTZJyk6M:&amp;ved=0CAUQjRw&amp;url=http%3A%2F%2Fwww.picturesof.net%2Fpages%2F090329-220989-519048.html&amp;ei=MY8mUYzYD8is0QWr0YH4CA&amp;bvm=bv.42661473,d.d2k&amp;psig=AFQjCNHX6UzNsTv2FuGt2cG28ULMsh3Hgw&amp;ust=1361567898007701" TargetMode="External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images.google.co.uk/imgres?imgurl=http://www.6767.com/archives/sore_throat.jpg&amp;imgrefurl=http://journeyswithjood.blogspot.com/2006_08_01_archive.html&amp;h=320&amp;w=320&amp;sz=14&amp;hl=en&amp;start=10&amp;um=1&amp;usg=__2oQG7r7uiP2wnOf-FLN4x7PhBRs=&amp;tbnid=HE9r9643ALDYPM:&amp;tbnh=118&amp;tbnw=118&amp;prev=/images%3Fq%3Dsore%2Bthroat%26um%3D1%26hl%3Den%26sa%3DX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.uk/imgres?imgurl=http://www.dotolearn.com/picturecards/images/imageschedule/stomachache_l.gif&amp;imgrefurl=http://www.dotolearn.com/picturecards/printcards/2inch/imagegridsnowords/healthnoword.htm&amp;h=421&amp;w=352&amp;sz=11&amp;hl=en&amp;start=1&amp;um=1&amp;usg=__mvrkaJoLOBWuF48KJJsDWU_59JQ=&amp;tbnid=nR1qILRuX94djM:&amp;tbnh=125&amp;tbnw=105&amp;prev=/images%3Fq%3Dstomach%2Bache%26um%3D1%26hl%3D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google.co.uk/url?sa=i&amp;rct=j&amp;q=pharmacy+clipart&amp;source=images&amp;cd=&amp;cad=rja&amp;docid=HkDj-34XrgospM&amp;tbnid=47VPsYbJmAezyM:&amp;ved=0CAUQjRw&amp;url=http%3A%2F%2Frussianlearn.com%2Fwords&amp;ei=DJEmUa-GKqH80QXnxYGQCw&amp;bvm=bv.42661473,d.d2k&amp;psig=AFQjCNEJoHBS_rPZWSxpVBY7NBQluck4Aw&amp;ust=1361568391495146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images.google.co.uk/imgres?imgurl=http://tell.fll.purdue.edu/JapanProj/FLClipart/Medical/cold.gif&amp;imgrefurl=http://philadelphiaweather.blogspot.com/2005_12_09_archive.html&amp;h=833&amp;w=834&amp;sz=15&amp;hl=en&amp;start=2&amp;um=1&amp;usg=__MnSFsY6fUmwsUbSyRqh-lRlpJsw=&amp;tbnid=1jpU5ATER9TAzM:&amp;tbnh=144&amp;tbnw=144&amp;prev=/images%3Fq%3Dcold%26um%3D1%26hl%3Den" TargetMode="External"/><Relationship Id="rId7" Type="http://schemas.openxmlformats.org/officeDocument/2006/relationships/image" Target="../media/image21.jpeg"/><Relationship Id="rId8" Type="http://schemas.openxmlformats.org/officeDocument/2006/relationships/image" Target="../media/image14.jpeg"/><Relationship Id="rId9" Type="http://schemas.openxmlformats.org/officeDocument/2006/relationships/image" Target="../media/image19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2" descr=""/>
          <p:cNvPicPr/>
          <p:nvPr/>
        </p:nvPicPr>
        <p:blipFill>
          <a:blip r:embed="rId3"/>
          <a:stretch/>
        </p:blipFill>
        <p:spPr>
          <a:xfrm>
            <a:off x="2916360" y="4581360"/>
            <a:ext cx="777600" cy="77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3"/>
          <p:cNvSpPr/>
          <p:nvPr/>
        </p:nvSpPr>
        <p:spPr>
          <a:xfrm>
            <a:off x="271476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4" descr=""/>
          <p:cNvPicPr/>
          <p:nvPr/>
        </p:nvPicPr>
        <p:blipFill>
          <a:blip r:embed="rId4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"/>
          <p:cNvPicPr/>
          <p:nvPr/>
        </p:nvPicPr>
        <p:blipFill>
          <a:blip r:embed="rId5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7" descr=""/>
          <p:cNvPicPr/>
          <p:nvPr/>
        </p:nvPicPr>
        <p:blipFill>
          <a:blip r:embed="rId6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bn0.google.com/images?q=tbn:XyAnSqiAVZmEcM:http://icn2.umeche.maine.edu/newnav/NewNavigator/images/headache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2571840"/>
            <a:ext cx="933480" cy="76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bn0.google.com/images?q=tbn:iVR4y_2DZKVpuM:http://www.ithec.com/images/aspirine_accueil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57240" y="4643280"/>
            <a:ext cx="808200" cy="7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2" descr=""/>
          <p:cNvPicPr/>
          <p:nvPr/>
        </p:nvPicPr>
        <p:blipFill>
          <a:blip r:embed="rId11"/>
          <a:stretch/>
        </p:blipFill>
        <p:spPr>
          <a:xfrm>
            <a:off x="5651640" y="3500280"/>
            <a:ext cx="86508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257184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3" descr="C:\Program Files\Microsoft Office\Media\CntCD1\ClipArt3\j0232986.wmf"/>
          <p:cNvPicPr/>
          <p:nvPr/>
        </p:nvPicPr>
        <p:blipFill>
          <a:blip r:embed="rId6"/>
          <a:stretch/>
        </p:blipFill>
        <p:spPr>
          <a:xfrm>
            <a:off x="2928960" y="4572000"/>
            <a:ext cx="871560" cy="90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bn0.google.com/images?q=tbn:HE9r9643ALDYPM:http://www.6767.com/archives/sore_throa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002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http://www.healthinajiffy.co.uk/images/strepsils-orange-vitamin-c-36.jpg"/>
          <p:cNvPicPr/>
          <p:nvPr/>
        </p:nvPicPr>
        <p:blipFill>
          <a:blip r:embed="rId9"/>
          <a:stretch/>
        </p:blipFill>
        <p:spPr>
          <a:xfrm>
            <a:off x="1643040" y="44290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ttp://tbn0.google.com/images?q=tbn:nR1qILRuX94djM:http://www.dotolearn.com/picturecards/images/imageschedule/stomachache_l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43720" y="3429000"/>
            <a:ext cx="8204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2" descr=""/>
          <p:cNvPicPr/>
          <p:nvPr/>
        </p:nvPicPr>
        <p:blipFill>
          <a:blip r:embed="rId3"/>
          <a:stretch/>
        </p:blipFill>
        <p:spPr>
          <a:xfrm>
            <a:off x="2916360" y="4581360"/>
            <a:ext cx="777600" cy="770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3"/>
          <p:cNvSpPr/>
          <p:nvPr/>
        </p:nvSpPr>
        <p:spPr>
          <a:xfrm>
            <a:off x="271476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4" descr=""/>
          <p:cNvPicPr/>
          <p:nvPr/>
        </p:nvPicPr>
        <p:blipFill>
          <a:blip r:embed="rId4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5" descr=""/>
          <p:cNvPicPr/>
          <p:nvPr/>
        </p:nvPicPr>
        <p:blipFill>
          <a:blip r:embed="rId5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6" descr=""/>
          <p:cNvPicPr/>
          <p:nvPr/>
        </p:nvPicPr>
        <p:blipFill>
          <a:blip r:embed="rId6"/>
          <a:stretch/>
        </p:blipFill>
        <p:spPr>
          <a:xfrm>
            <a:off x="2071800" y="4643280"/>
            <a:ext cx="447480" cy="7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"/>
          <p:cNvPicPr/>
          <p:nvPr/>
        </p:nvPicPr>
        <p:blipFill>
          <a:blip r:embed="rId7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http://tbn0.google.com/images?q=tbn:4VvIhzP69mrtTM:http://www.stanford.edu/group/virus/adeno/2005/cough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0800" y="3571920"/>
            <a:ext cx="928440" cy="78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2" descr=""/>
          <p:cNvPicPr/>
          <p:nvPr/>
        </p:nvPicPr>
        <p:blipFill>
          <a:blip r:embed="rId10"/>
          <a:stretch/>
        </p:blipFill>
        <p:spPr>
          <a:xfrm>
            <a:off x="5580000" y="2476440"/>
            <a:ext cx="8650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2643120" y="4572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tbn0.google.com/images?q=tbn:f8J-evAKn9FvYM:http://www.countryilink.net/fastturtle/feet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43720" y="3571920"/>
            <a:ext cx="96012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russianlearn.com/images/photos/chemist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13200" y="4581360"/>
            <a:ext cx="812520" cy="90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M00207_"/>
          <p:cNvPicPr/>
          <p:nvPr/>
        </p:nvPicPr>
        <p:blipFill>
          <a:blip r:embed="rId10"/>
          <a:stretch/>
        </p:blipFill>
        <p:spPr>
          <a:xfrm>
            <a:off x="1793880" y="4516560"/>
            <a:ext cx="903240" cy="87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tretch/>
        </p:blipFill>
        <p:spPr>
          <a:xfrm>
            <a:off x="5632560" y="2421000"/>
            <a:ext cx="9460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643120" y="4572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6" descr="http://graphics8.nytimes.com/images/2006/11/09/realestate/12home.190.jpg"/>
          <p:cNvPicPr/>
          <p:nvPr/>
        </p:nvPicPr>
        <p:blipFill>
          <a:blip r:embed="rId6"/>
          <a:stretch/>
        </p:blipFill>
        <p:spPr>
          <a:xfrm>
            <a:off x="1773360" y="4572000"/>
            <a:ext cx="890640" cy="820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http://tbn0.google.com/images?q=tbn:YHq1V0RyRPnUpM:http://www.dotolearn.com/picturecards/images/imageschedule/earache_l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71840"/>
            <a:ext cx="895320" cy="866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tbn0.google.com/images?q=tbn:1jpU5ATER9TAzM:http://tell.fll.purdue.edu/JapanProj/FLClipart/Medical/cold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643720" y="35719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www.picturesof.net/_images_300/Aspirin_Pills_Royalty_Free_Clipart_Picture_090329-220989-519048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27320" y="4608360"/>
            <a:ext cx="649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3"/>
          <p:cNvSpPr/>
          <p:nvPr/>
        </p:nvSpPr>
        <p:spPr>
          <a:xfrm>
            <a:off x="257184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tbn0.google.com/images?q=tbn:HE9r9643ALDYPM:http://www.6767.com/archives/sore_throat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25002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http://www.healthinajiffy.co.uk/images/strepsils-orange-vitamin-c-36.jpg"/>
          <p:cNvPicPr/>
          <p:nvPr/>
        </p:nvPicPr>
        <p:blipFill>
          <a:blip r:embed="rId8"/>
          <a:stretch/>
        </p:blipFill>
        <p:spPr>
          <a:xfrm>
            <a:off x="1643040" y="44290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http://tbn0.google.com/images?q=tbn:nR1qILRuX94djM:http://www.dotolearn.com/picturecards/images/imageschedule/stomachache_l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643720" y="3429000"/>
            <a:ext cx="820440" cy="976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ttp://russianlearn.com/images/photos/chemis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13200" y="4581360"/>
            <a:ext cx="81252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3"/>
          <p:cNvSpPr/>
          <p:nvPr/>
        </p:nvSpPr>
        <p:spPr>
          <a:xfrm>
            <a:off x="271476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ttp://tbn0.google.com/images?q=tbn:1jpU5ATER9TAzM:http://tell.fll.purdue.edu/JapanProj/FLClipart/Medical/cold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43720" y="257184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tbn0.google.com/images?q=tbn:4VvIhzP69mrtTM:http://www.stanford.edu/group/virus/adeno/2005/cough.gif"/>
          <p:cNvPicPr/>
          <p:nvPr/>
        </p:nvPicPr>
        <p:blipFill>
          <a:blip r:embed="rId8"/>
          <a:stretch/>
        </p:blipFill>
        <p:spPr>
          <a:xfrm>
            <a:off x="5500800" y="3571920"/>
            <a:ext cx="928440" cy="78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6" descr="http://graphics8.nytimes.com/images/2006/11/09/realestate/12home.190.jpg"/>
          <p:cNvPicPr/>
          <p:nvPr/>
        </p:nvPicPr>
        <p:blipFill>
          <a:blip r:embed="rId9"/>
          <a:stretch/>
        </p:blipFill>
        <p:spPr>
          <a:xfrm>
            <a:off x="1773360" y="4572000"/>
            <a:ext cx="890640" cy="820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3" descr="http://t3.gstatic.com/images?q=tbn:ANd9GcRvXn1-IApYF3zTXxER63PZn_Pu8o_R-qtoVfaNCLInQ4RAgBZl"/>
          <p:cNvPicPr/>
          <p:nvPr/>
        </p:nvPicPr>
        <p:blipFill>
          <a:blip r:embed="rId10"/>
          <a:stretch/>
        </p:blipFill>
        <p:spPr>
          <a:xfrm>
            <a:off x="2981160" y="4614840"/>
            <a:ext cx="8701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4:59:06Z</dcterms:created>
  <dc:creator>abarbier</dc:creator>
  <dc:description/>
  <dc:language>en-US</dc:language>
  <cp:lastModifiedBy>Luffi</cp:lastModifiedBy>
  <dcterms:modified xsi:type="dcterms:W3CDTF">2013-09-25T21:10:29Z</dcterms:modified>
  <cp:revision>3</cp:revision>
  <dc:subject/>
  <dc:title>Slide 1</dc:title>
</cp:coreProperties>
</file>